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460-2075-4E6A-BCAD-BEDB9E63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9F6-8D5D-4A2B-AE29-083FC46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CE3-3F43-45C1-A6E7-B9DA267E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748-D5DB-45D5-988F-EBCDC104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C82-5F82-429F-9D28-D45E3AC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73E-FE1D-4D4A-BBBE-BAD62540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570-89F7-497D-A13C-AFD119C6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2CF-D6E8-4905-AAF1-B315478D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953-B964-4577-BB80-30AAFBD0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36B-65FD-483A-ABDA-DC8F148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BC1-D81F-497F-88EA-D44AFA2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072-98FA-457E-9B90-CE4FE11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23EE-D936-4548-9D21-10775FE5A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7520"/>
          <a:ext cx="7925040" cy="676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20"/>
                    <a:ext cx="7925040" cy="67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609480"/>
            <a:ext cx="8458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iv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SPA  ISPB  SB   Cisco  Caltech UCLA  USC  ES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SPA     X     X*   X      -      -     X     -  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SPB     X*    X    X      -      -     X     -  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B       X     X    X      X      X     X     X  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NPR     -     -    X      X      X     X     X  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tech  -     -    X      X      X     X     X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CLA     X     X    X      X      X     X     X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C      -     -    X      X      X     X     X   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net    -     -    -      -      X     X     X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9:12:14Z</dcterms:created>
  <dc:creator>Juniper Networks, Inc.</dc:creator>
  <dc:description/>
  <dc:language>en-US</dc:language>
  <cp:lastModifiedBy>Juniper Networks, Inc.</cp:lastModifiedBy>
  <dcterms:modified xsi:type="dcterms:W3CDTF">2002-07-30T20:51:59Z</dcterms:modified>
  <cp:revision>3</cp:revision>
  <dc:subject/>
  <dc:title>PowerPoint Presentation</dc:title>
</cp:coreProperties>
</file>